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898-CA02-4262-8E06-8AEE3F27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034-3663-4B82-BA2A-D80DD9CE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1D0-A7FD-4176-8EDF-D484861C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31D4-FF4F-4699-8989-B373A683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0DBA-0C4C-47AB-8291-C0D0888A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599C-458C-43BD-A904-356E463C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C445-27B5-4D1C-B8AC-4D92518E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A2F2-1606-4098-B2A9-F94E2AD9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0FFD-CDD9-4BC1-9294-77BDD119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26C1-6A42-429F-AC57-C702E8A4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171-8D2D-43EE-A15B-886AD71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EF0-936B-4D3F-BE0A-4805A0B6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7ED6-2EF9-4372-A1BF-0165F02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F88F-F3AF-4FBF-98C9-DE1EE0A8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5F65-093A-48BB-8450-DA87A125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C1A2-06BF-4530-BC77-498B0B6C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F4BF-E043-4CAE-BB17-447F00C2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8303-43A0-4895-BF0D-176B15E2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C8C8-BC19-49B1-A735-85D2430D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03F1-1B65-4896-A6E7-F45FEFBA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01EF-897C-4D20-937E-F6CE8438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0FA2-9000-4946-A2E5-8D3FAEB2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B1A-9924-4CA7-B7BD-7FBB9527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A837-17B5-496F-B04A-81F75E1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B4DC-8EA0-4008-91D7-B0764654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0891-6528-4AB7-92E2-50EAED7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85BC-A021-421E-8B18-5DAE5B29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1D7C-BAD5-4FC9-B5E9-080807EA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58F4-D1AD-48A9-B0C4-248EF7CE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DAA5-82BC-411A-983A-11DC60A8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1A13-C54D-448A-B9E7-1C4D3D0A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68ABA-D715-4822-8CB7-32F48648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3975-8983-4C4A-AB7E-424F6637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E93-8425-4F34-BCDB-6226E47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8B1B-4E85-42E0-B0B9-BAD2CC1E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33FA4-E295-4041-A19C-B99E8016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C898-8AD9-46BC-9F33-E67E475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15AC-008D-44B1-8227-BC1C7FD4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D18E-2A02-47FF-A78D-AB91255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EC0F-6654-4A06-A208-25B656BB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3619-4FBB-45E7-9FF4-A94B3D17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EA7B-A51F-4F69-AE97-9A095293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CAA5-5FE1-47E3-8AEF-0C60265A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1F3F-2472-4BA7-A123-1D471F9C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E82-C7DF-4E9A-984E-050877A6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55CD-73B6-4F6A-8645-62A47AFF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4C568-073A-4ACE-9C1C-05AABE05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92FE0-211B-439A-A6E2-3A44C37B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4E2CA-C0F6-4288-B214-008C96DE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BF2EC-2CA3-4217-817D-A099E063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795B4-A886-4FE5-A986-DCCCA89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840D-EAB3-4630-9D5E-0CF7590C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14861-885C-4C6F-BF2C-C7919A61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1B64-D88C-4C9D-99FE-F915402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1E96-B051-45D8-9907-C0AA2006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9D7-07D8-4B1F-9C02-9908EAC0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AC66C-8663-4457-9C5F-C178158C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E95-FF18-4EBB-9258-CDBC975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519-E1DE-41B9-AAE2-75F2855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94E-C430-443A-BD2B-D2D9065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FD22-5D04-4960-A908-2D78BBF2EAA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989B-E830-4243-A672-A1751FB8796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C169-9FC8-4312-816A-08F702768A4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8C8E-DC0E-4E6B-824C-6A549A94D20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612F-39FC-418E-BE2E-D63FE56E17C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НУКЛЕИНСКЕ КИСЕЛИНЕ:</a:t>
            </a:r>
            <a:br>
              <a:rPr sz="6000"/>
            </a:b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ДНК и РНК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onstantia"/>
              </a:rPr>
              <a:t>Фракције РН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 РН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налазе се у сплајсозомима, имају улогу у обради примарне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o РНК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мају улогу у модификацији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kro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дужине 22 нуклеотида, везују се за иРНК и регулишу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ntisens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искључује кодирајуће сегменте у  ДНК (sen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е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28240" y="457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DNA2"/>
          <p:cNvPicPr/>
          <p:nvPr/>
        </p:nvPicPr>
        <p:blipFill>
          <a:blip r:embed="rId1"/>
          <a:stretch/>
        </p:blipFill>
        <p:spPr>
          <a:xfrm>
            <a:off x="6141960" y="3657600"/>
            <a:ext cx="2849760" cy="3186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1080" y="3897360"/>
            <a:ext cx="2819520" cy="27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sr-CS" sz="25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500"/>
            </a:br>
            <a:br>
              <a:rPr sz="2500"/>
            </a:br>
            <a:r>
              <a:rPr b="1" lang="sr-Latn-CS" sz="25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0880" y="1920600"/>
            <a:ext cx="41148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а носи информацију за синтезу функционалног продук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распореда и редоследа 4 типа нуклеотида (А тип, G тип, C тип, Т тип нуклеоти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2" name="Object 6"/>
          <p:cNvGraphicFramePr/>
          <p:nvPr/>
        </p:nvGraphicFramePr>
        <p:xfrm>
          <a:off x="5638680" y="228600"/>
          <a:ext cx="327672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"/>
                    <a:ext cx="32767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6477120" y="3505320"/>
          <a:ext cx="2170080" cy="31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505320"/>
                    <a:ext cx="217008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08-22T10:01:54Z</dcterms:modified>
  <cp:revision>101</cp:revision>
  <dc:subject/>
  <dc:title>2-Humani genom</dc:title>
</cp:coreProperties>
</file>